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036-00DB-42D4-9BD5-A41D2F52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933-6B9B-47E5-A352-4AFCE18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687-8342-48A8-94F7-A292FE51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B0E-1DBE-4394-9BEC-2EA71095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B293-1EA7-4BCA-B1DE-27DEF276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99F0A-ED4A-4631-84B8-96C861CE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F50D-4D90-43A6-AD15-87B8E4A0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AE6BF-19D9-4ACE-9D8E-3CA091C1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DE382-BCCC-42D4-BE37-64A42072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ACA27-85A9-4ACE-A364-A623373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A79DC-2758-48E8-ACC8-7D063CB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645-18DF-4ED6-B05B-52303EC2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19F0B-5623-4AC4-B521-9B71521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31F13-C97D-443F-A449-BDBF72A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A1D9B-9B21-4FAC-86DE-A3C57CD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AE1BE-9EF9-47E2-8389-2403B79A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6ADCE-1DCF-4D13-AFAF-5B696047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B9A8E-F51C-46A6-9BFC-D3AFF15C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50693-CEDD-4BE5-9B14-78E5704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A17D2-A850-459F-8ADE-343783A8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521FF-40D1-44FE-B2B8-53AB60EB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E1C70-65D1-41E1-8C85-48E93574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EF6-3223-4769-8BBA-E9127FD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F54DD-EE11-46A6-B4BC-EE8A61F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F6E5C-5EB9-46E3-875C-43C57E3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349AB-51F4-4FD8-9FAA-3EE90DA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F380E-2C10-41E1-8E07-993DE36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0C236-BB79-442A-8D3C-530FF6A7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939CC-29A4-499F-9F4B-C1323B28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DE737-6AE6-40F4-B4F8-86C8CD02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E2228-4CCD-4B03-9830-423E17B8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C4AC3-D2CD-4554-98F1-70F70A56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C8CDC-1C52-43AE-9BFF-F7DE1222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A13-AB8C-43DB-AC34-E345FEE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0F9E5-389A-4E4A-993B-11861880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10825-BFB3-4309-9DDD-20D66109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4D469-E233-4061-84CE-AD0024CE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198B2-92F5-4607-B6CF-51FE6E4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B5E51-4919-444A-8011-C304FBCE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F8C3D-B6AC-4AA5-AAEF-99FB6021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EA08C-40F3-4434-95C0-25149CCF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50ABB-2803-41E0-9002-8882F6ED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1FD65-B29A-42C3-8163-6970B21C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6C064-EB2A-49F0-B638-F52BBC01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557-4533-45B2-999B-27654A09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4D656-157B-4A8E-9037-1BFBFFF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00D82-F419-4074-93E0-5FD2162B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BCEB2-045F-4BA4-9F68-4FE546D4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7E9AA-E05B-4A5E-B93B-A94A4CF1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B1D40-AD38-41C2-A0A6-5F4990C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24745-50BD-499D-BC3A-8BE8FC3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BEC55-C20E-47C2-AD6F-06D9CF8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348AF-61E9-4DEC-AC93-E6E7A28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B63D3-E7BE-4BB9-A688-3F6FDF2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2A241-40F3-4974-B990-CF2BFF05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120-5F36-41F7-9169-9102D08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3C304-2B90-42EB-A80A-B181B352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CC2CC-174C-412F-9F1A-E2BA4F53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37CAB-145C-41AC-A329-B22D145A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B62E3-0AC8-4706-B79E-5980EC3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22A2B-74D2-4CD4-94E9-55F2216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F43D7-E87B-423D-8738-3B4A0C05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A7404-90C4-4C37-AF8A-50D7DA0E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A846D-DC57-42A6-9DD0-9BF65BC5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7035D-8B01-4C77-A30A-A33C321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BFD27-B524-47A7-8B3C-784DF39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084-3514-4C3C-8F24-249D5D7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32797-ECBF-4424-BE48-41C3B380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AA9F3-3A1D-4F47-8969-2E9C6D14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00544-4779-46D1-AF2E-BCEA7182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448-08CF-46E3-BB7A-FB5F5D7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F64-31F1-4A1E-8A41-CAA23F4C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CEB-AC36-45A6-BD88-CF15777504B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43A-7640-4E46-B562-CEB4A54B737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6E22-383C-4314-A153-F92EC880241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030-FA86-4397-BABB-BBCA5DAAB6A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BB6-D912-49E7-9F7E-0D0FB0B15B9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8581-7BCD-46C4-8E53-A3672D6A1A6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олнение годовых форм государственного статистического наблюдения 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№№ 13, 32, 19, 30, 54, </a:t>
            </a:r>
            <a:br>
              <a:rPr sz="4400"/>
            </a:br>
            <a:r>
              <a:rPr b="1" lang="ru-RU" sz="4400" spc="-1" strike="noStrike">
                <a:solidFill>
                  <a:srgbClr val="fbfb5f"/>
                </a:solidFill>
                <a:latin typeface="Times New Roman"/>
              </a:rPr>
              <a:t>30-ПО/о-12, 030-Д/с/о-13 </a:t>
            </a:r>
            <a:br>
              <a:rPr sz="4400"/>
            </a:br>
            <a:br>
              <a:rPr sz="3300"/>
            </a:b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ч-статистик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дела медицинской статистики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УЗ «МИАЦ»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кина Юлия Михайловна</a:t>
            </a:r>
            <a:endParaRPr b="0" lang="en-US" sz="2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bfb5f"/>
                </a:solidFill>
                <a:latin typeface="Times New Roman"/>
                <a:ea typeface="Times New Roman"/>
              </a:rPr>
              <a:t>«Пояснительная записка к годовому медико-статистическому отчету за 2017 г.»</a:t>
            </a:r>
            <a:r>
              <a:rPr b="1" lang="ru-RU" sz="3000" spc="-1" strike="noStrike">
                <a:solidFill>
                  <a:srgbClr val="fbfb5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ждый случай материнской смерти и на каждый случай родов и прерываний беременности в возрасте до 14 лет включительн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яются таблицы 3, 4, 5 и приложение 3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патологоанатомические вскрытия по базовой и прикрепленным МО заполняются в таблице 6;</a:t>
            </a:r>
            <a:endParaRPr b="0" lang="en-US" sz="3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в таблице 7 МО расшифровываются строки 6 и 7 таблицы 2402 формы №30 «пациенты трудоспособного возраста умершие на дому от острых цереброваскулярных болезней и острого инфаркта миокарда».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9 </a:t>
            </a:r>
            <a:br>
              <a:rPr sz="4000"/>
            </a:br>
            <a:r>
              <a:rPr b="1" lang="ru-RU" sz="4000" spc="-1" strike="noStrike">
                <a:solidFill>
                  <a:srgbClr val="fbfb5f"/>
                </a:solidFill>
                <a:latin typeface="Times New Roman"/>
              </a:rPr>
              <a:t>«Сведения о детях-инвалидах» и формы </a:t>
            </a:r>
            <a:r>
              <a:rPr b="1" lang="ru-RU" sz="4400" spc="-1" strike="noStrike">
                <a:solidFill>
                  <a:srgbClr val="fbfb5f"/>
                </a:solidFill>
                <a:latin typeface="Times New Roman"/>
              </a:rPr>
              <a:t>30-ПО/о-12, 030-Д/с/о-13 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Все дети-инвалиды име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группу здоровья, что соответствуе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группе здоровья профилактических осмотров и диспансеризации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9 </a:t>
            </a:r>
            <a:br>
              <a:rPr sz="3600"/>
            </a:br>
            <a:r>
              <a:rPr b="1" lang="ru-RU" sz="3600" spc="-1" strike="noStrike">
                <a:solidFill>
                  <a:srgbClr val="fbfb5f"/>
                </a:solidFill>
                <a:latin typeface="Times New Roman"/>
              </a:rPr>
              <a:t>«Сведения о детях-инвалидах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1413000"/>
          <a:ext cx="8640720" cy="4827600"/>
        </p:xfrm>
        <a:graphic>
          <a:graphicData uri="http://schemas.openxmlformats.org/drawingml/2006/table">
            <a:tbl>
              <a:tblPr/>
              <a:tblGrid>
                <a:gridCol w="5688000"/>
                <a:gridCol w="2952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смотрено детей-инвалидов на 01.12.2017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АУЗ «БГП №5» 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БДГБ №1»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Клинцовская ЦГБ»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9 </a:t>
            </a:r>
            <a:br>
              <a:rPr sz="3600"/>
            </a:br>
            <a:r>
              <a:rPr b="1" lang="ru-RU" sz="3600" spc="-1" strike="noStrike">
                <a:solidFill>
                  <a:srgbClr val="fbfb5f"/>
                </a:solidFill>
                <a:latin typeface="Times New Roman"/>
              </a:rPr>
              <a:t>«Сведения о детях-инвалидах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341360"/>
          <a:ext cx="8280360" cy="5259600"/>
        </p:xfrm>
        <a:graphic>
          <a:graphicData uri="http://schemas.openxmlformats.org/drawingml/2006/table">
            <a:tbl>
              <a:tblPr/>
              <a:tblGrid>
                <a:gridCol w="5761080"/>
                <a:gridCol w="25192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смотрено детей-инвалидов на 01.12.201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Карачев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Брян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Новозыбков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Почеп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Навлин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9 </a:t>
            </a:r>
            <a:br>
              <a:rPr sz="3600"/>
            </a:br>
            <a:r>
              <a:rPr b="1" lang="ru-RU" sz="3600" spc="-1" strike="noStrike">
                <a:solidFill>
                  <a:srgbClr val="fbfb5f"/>
                </a:solidFill>
                <a:latin typeface="Times New Roman"/>
              </a:rPr>
              <a:t>«Сведения о детях-инвалидах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68360" y="1341360"/>
          <a:ext cx="8424720" cy="5043600"/>
        </p:xfrm>
        <a:graphic>
          <a:graphicData uri="http://schemas.openxmlformats.org/drawingml/2006/table">
            <a:tbl>
              <a:tblPr/>
              <a:tblGrid>
                <a:gridCol w="5256000"/>
                <a:gridCol w="3168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смотрено детей-инвалидов на 01.12.2017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Мглин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Брасов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Выгонич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Трубчев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Злынков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9 </a:t>
            </a:r>
            <a:br>
              <a:rPr sz="3600"/>
            </a:br>
            <a:r>
              <a:rPr b="1" lang="ru-RU" sz="3600" spc="-1" strike="noStrike">
                <a:solidFill>
                  <a:srgbClr val="fbfb5f"/>
                </a:solidFill>
                <a:latin typeface="Times New Roman"/>
              </a:rPr>
              <a:t>«Сведения о детях-инвалидах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9640" y="1413000"/>
          <a:ext cx="8280360" cy="50432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смотрено детей-инвалидов на 01.12.2017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Комарич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Дубров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Фокинская Г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БДГП №2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Юдиновская У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9 </a:t>
            </a:r>
            <a:br>
              <a:rPr sz="3600"/>
            </a:br>
            <a:r>
              <a:rPr b="1" lang="ru-RU" sz="3600" spc="-1" strike="noStrike">
                <a:solidFill>
                  <a:srgbClr val="fbfb5f"/>
                </a:solidFill>
                <a:latin typeface="Times New Roman"/>
              </a:rPr>
              <a:t>«Сведения о детях-инвалидах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50920" y="1413000"/>
          <a:ext cx="8569080" cy="4970160"/>
        </p:xfrm>
        <a:graphic>
          <a:graphicData uri="http://schemas.openxmlformats.org/drawingml/2006/table">
            <a:tbl>
              <a:tblPr/>
              <a:tblGrid>
                <a:gridCol w="5689440"/>
                <a:gridCol w="2879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смотрено детей-инвалидов на 01.12.2017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Стародубская ЦРБ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БГБ №8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Красногор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ГБУЗ «Суражская ЦРБ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4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54 </a:t>
            </a:r>
            <a:br>
              <a:rPr sz="3600"/>
            </a:br>
            <a:r>
              <a:rPr b="1" lang="ru-RU" sz="3600" spc="-1" strike="noStrike">
                <a:solidFill>
                  <a:srgbClr val="fbfb5f"/>
                </a:solidFill>
                <a:latin typeface="Times New Roman"/>
              </a:rPr>
              <a:t>«Сведения врача детского дома, школы-интерната о лечебно-профилактической помощи воспитанникам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Данные по числу детей-инвалидов таблица 2310 по графам 2 и 3 должны соответствовать числу детей-инвалидов в форме №19 «Сведения о детях-инвалидах» таблица 1000 и форме №30 в таблице 2601 «Состоит инвалидов на учете в МО»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300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-324000" y="0"/>
            <a:ext cx="946800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Форма №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0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«Сведения о медицинской организации»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профилю Патологоанатомические вскрытия (таблицы 5503, 2402, 2120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должны соответствовать электронной базе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чет свидетельств о смерти»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32</a:t>
            </a:r>
            <a:r>
              <a:rPr b="1" lang="ru-RU" sz="3200" spc="-1" strike="noStrike">
                <a:solidFill>
                  <a:srgbClr val="fbfb5f"/>
                </a:solidFill>
                <a:latin typeface="Times New Roman"/>
              </a:rPr>
              <a:t> «Сведения о медицинской помощи беременным, роженицам и родильницам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нформация по работе женской консультации должна соответствовать ежемесячным отчетам Росздравнадзора по Брянской области в ИАС БАРС-Мониторинг «Росздравнадзор – Младенческая смертность»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-216000" y="-360"/>
            <a:ext cx="9360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Форма № 13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«Сведения о прерывании беременности (в сроки до 22 недель)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 изменена!!!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-216000" y="-360"/>
            <a:ext cx="9360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Форма № 13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«Сведения о прерывании беременности (в сроки до 22 недель)»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рывания беременности в возрасте до 14 лет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олько как медицинский аборт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Форма № 32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формация о  мертворождениях и случаях смерти детей в перинатальном периоде не должна расходиться с данными патологоанатомов;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сло родов должно соответствовать «Экстренным донесениям»;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сло родившихся, переведенных в другие стационары должно соответствовать данным в форме №14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32</a:t>
            </a:r>
            <a:r>
              <a:rPr b="1" lang="ru-RU" sz="3200" spc="-1" strike="noStrike">
                <a:solidFill>
                  <a:srgbClr val="fbfb5f"/>
                </a:solidFill>
                <a:latin typeface="Times New Roman"/>
              </a:rPr>
              <a:t> «Сведения о медицинской помощи беременным, роженицам и родильницам», </a:t>
            </a:r>
            <a:r>
              <a:rPr b="1" lang="ru-RU" sz="32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13</a:t>
            </a:r>
            <a:r>
              <a:rPr b="1" lang="ru-RU" sz="3200" spc="-1" strike="noStrike">
                <a:solidFill>
                  <a:srgbClr val="fbfb5f"/>
                </a:solidFill>
                <a:latin typeface="Times New Roman"/>
              </a:rPr>
              <a:t> «Сведения о прерывании беременности (в сроки до 22 недель)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случаях родов и прерываний беременности у ВИЧ-инфицированных женщин должна соответствовать данным ГБУЗ «Брянский областной центр по профилактике и борьбе со СПИД»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32</a:t>
            </a:r>
            <a:r>
              <a:rPr b="1" lang="ru-RU" sz="3200" spc="-1" strike="noStrike">
                <a:solidFill>
                  <a:srgbClr val="fbfb5f"/>
                </a:solidFill>
                <a:latin typeface="Times New Roman"/>
              </a:rPr>
              <a:t> «Сведения о медицинской помощи беременным, роженицам и родильницам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снительная записка представляется на каждый случай при рождении ребенка с массой тела менее 500 г при сроке 22 недели беременности и более.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bfb5f"/>
                </a:solidFill>
                <a:uFillTx/>
                <a:latin typeface="Times New Roman"/>
              </a:rPr>
              <a:t>Форма № 30</a:t>
            </a:r>
            <a:r>
              <a:rPr b="1" lang="ru-RU" sz="3200" spc="-1" strike="noStrike">
                <a:solidFill>
                  <a:srgbClr val="fbfb5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bfb5f"/>
                </a:solidFill>
                <a:latin typeface="Times New Roman"/>
              </a:rPr>
              <a:t>«Сведения о медицинской организации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при заполнении таблицы 2400 «Родовспоможение на дому» представлять пояснительные записки заверенные и скрепленные печатью МО и подписью главного врач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51:32Z</dcterms:created>
  <dc:creator>Igor</dc:creator>
  <dc:description/>
  <dc:language>en-US</dc:language>
  <cp:lastModifiedBy>Users</cp:lastModifiedBy>
  <cp:lastPrinted>2012-04-02T13:35:16Z</cp:lastPrinted>
  <dcterms:modified xsi:type="dcterms:W3CDTF">2017-12-19T05:54:35Z</dcterms:modified>
  <cp:revision>276</cp:revision>
  <dc:subject/>
  <dc:title>МУЗ «Брянская городская больница №4»</dc:title>
</cp:coreProperties>
</file>