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585-F854-430F-A5E0-533C62E7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B87-D5B1-431E-8A0C-B41BCA3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D83-9D5E-45CF-9450-C9ADEB0F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C3A-EED7-4B85-9448-7AE74D16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14BD-D9EA-4076-AC13-11C9DC42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DD09-BC09-476D-B4AE-6A67F6B7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5A9C-D935-41B6-AC14-76843EE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CC32-B826-4DEF-B18E-34E928B5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B253-7C90-404F-96CD-53329A2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36A-52B7-484F-A420-FB9FAC0C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61F-41F9-4E41-8154-B160886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6D4-AEB0-4B3B-A3D8-16C108EF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98A-A88D-420F-8BA1-F2D844EC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A42F-12DD-4F2A-8BF3-3178294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0750-39E8-4F02-BB1D-CB2A92BD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655-3C29-45FC-B8BF-4CAD4ADE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770-2CF7-45D0-AEF4-5BF021B7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8D7-A690-442D-B39C-F6425A24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4F8-01B4-4083-9415-7A084E9B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A0-DC03-4229-BED0-8C31FF9C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462-6EED-40C9-9C91-019E8564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72A-0AC6-4711-857C-0F61DE6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4B8-E9BB-4802-8242-68A4635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25E-7F0D-4A5C-B00A-A22B1B84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E7B-9AAC-4682-8390-4088162C311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0BD-1EDD-4B4A-912C-3CE01A643295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ирование годовых статистических отчетов в ИАС «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-мониторинг здравоохранения»</a:t>
            </a:r>
            <a:endParaRPr b="0" lang="en-US" sz="4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исова Н. П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о-аналитический отдел ГАУЗ МИАЦ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2680" y="6110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рянск, 19 декабря 2017 г.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686800" cy="302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 «Медицинский центр г. Жуковк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4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7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9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анция скорой медицинской помощ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оматологическая поликлиника № 3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городская стоматологическая поликлиника № 4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ая областная больниц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клинико-диагностический цент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врачебно-физкультурны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кардиологически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Брянский областной центр охраны здоровья семьи и репродукции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УЗ «Областная стоматологическая поликлиник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ас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больница № 8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детская больница № 1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городская детская поликлиника № 2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областная инфекционная больниц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ая областная психиатрическая больница № 3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кожно-венерологически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противотуберкулезный диспансер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Брянский областной центр по профилактике и борьбе со СПИД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Выгонич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Горде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Дубр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Жуковская М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Жуковский областной детский туберкулезный санаторий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успешно подготовившие отчеты за 2016 год 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Злынск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арач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арачевский специализированный дом ребенк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летнян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лимо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Красногор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Почеп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Стародуб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Сузем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Трубчев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Унечская ЦРБ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УЗ «Юдиновская участковая больница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КУЗ ОТ «Брянский областной центр мобилизационных резервов Резерв»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План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гистра медицинских работников с данными таблицы 1100 ф.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Геоинформационной системы с данными формы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увязок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сводных форм. Просмотр истории сборки формы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тчетных форм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Р с данными т. 1100 ф.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дачи годовых отчетов необходимо полностью заполнить ФРМР по всем врачам, средним и младшим медицинским работникам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врачей, средних и младших медицинских работников, включенных в ФРМР, должно полностью соответствовать количеству этих работников в табл. 1100 ф. 30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схождении – пояснительная записк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.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 Сверка данных Геоинформационной системы с данными формы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ь, мощность (плановое число посещений в смену), число коек круглосуточного стационара по форме 30 должны полностью совпадать с данными Геоинформационной системы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актуализации данных Геоинформационной системы необходимо внести измененные данные в формы НП и МО в ИАС 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инг здравоохранения»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точнение информации, содержащейся в Геоинформационной системе, необходимо направить запрос в свободной форме по адресу электронной почт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msi6@brkmed.ru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. Проверка увязок (контролей)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формы необходимо последовательно выбрать пункт Меню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вязки формы и подпункты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внутриформенные увязк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межформенные увяз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тся окно с результатами проверок увязок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257800" cy="4352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Окно результатов проверки увязок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43600" y="11430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печатка увязок выполняется нажатием кнопки Печать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жно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сдаче каждой формы обязательно иметь как саму распечатанную форму, так и распечатанные внутриформенные и межформенные увяз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3880"/>
            <a:ext cx="9907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eff1"/>
                </a:solidFill>
                <a:latin typeface="Arial Black"/>
              </a:rPr>
              <a:t>IV</a:t>
            </a:r>
            <a:r>
              <a:rPr b="1" lang="ru-RU" sz="2400" spc="-1" strike="noStrike">
                <a:solidFill>
                  <a:srgbClr val="99eff1"/>
                </a:solidFill>
                <a:latin typeface="Arial Black"/>
              </a:rPr>
              <a:t>. Проверка сводных форм. Просмотр истории сборки формы</a:t>
            </a: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формирования свода имеется возможность просмотреть историю сборки по каждой ячейке сводной формы. Для этого необходимо кликнуть правой кнопкой мыши по необходимой ячейке (она должна быть неактивной) и из контекстного меню выбрать пункт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казать историю сбор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существляется нажатием кнопки Печать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Просмотр истории сборки ячейк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V</a:t>
            </a: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. Печать отчетных форм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чать отчетной формы выполняется только после того, как будут выверены все данные и внесены все исправления. Для печати необходимо открыть форму и выбрать пункт меню Обработ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чатные фор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а экспортируется в форма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аспечатывается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выгруженной форме  вносить изменения запрещено. Если возникла необходимость изменить данные, то необходимо сначала внести изменения чере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ониторинг, а затем снова выгрузить форму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описано выш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05:58Z</dcterms:created>
  <dc:creator/>
  <dc:description/>
  <cp:keywords/>
  <dc:language>en-US</dc:language>
  <cp:lastModifiedBy>Admin</cp:lastModifiedBy>
  <dcterms:modified xsi:type="dcterms:W3CDTF">2017-12-18T13:36:20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