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B9F-784B-45D0-B346-A761C2CA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9F9-FDA0-4DCC-B1ED-A024B5F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FD3-0B0A-41A5-801D-356FBD52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DE0-9075-438B-8EA3-185821CA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EE33-EB6B-42E2-B882-4B2AEB98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0CC-8BFE-468B-A49A-61EA7B66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43E6-45C2-47BA-9F82-96E3803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23FB-7E69-4A23-8A0A-B00A619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092F-8157-4429-BB4F-41CE6290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577B-01C2-40D9-B89B-843E54A4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537C-BBF4-4E3A-AA30-3AE239E9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605-678C-499E-B89B-6F50B538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720D-E86A-4907-9AE4-C4DE7D52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6D9F-7D6C-4597-BFA8-6D2F183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6FC-F003-4F76-9EF6-70762CA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2DDA-6223-4CD6-8658-DF88A0C5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F4E-B2D3-4EC8-BA98-853EF66B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9C7-3978-40CC-9F2D-E49AA22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790-194E-4F88-A6CC-5B70E8A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421-E248-46BD-8DFE-4B98DBB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18B-BDFD-4BEE-BB48-257C9433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653-ACD3-45AE-89D3-8C116E3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357-4DB7-4132-AEDB-F447153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A10-8F7B-4482-B41A-2518A63B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123-4A46-4905-81AB-E91607A604C9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2964-5913-4793-8493-56E5DEC34903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ормирование годовых статистических отчетов в ИАС «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-мониторинг здравоохранения»</a:t>
            </a:r>
            <a:endParaRPr b="0" lang="en-US" sz="4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рисова Н. П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о-аналитический отдел ГАУЗ МИАЦ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92680" y="6110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рянск, 19 декабря 2017 г.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686800" cy="3027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успешно подготовившие отчеты за 2016 год 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 «Медицинский центр г. Жуковки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4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1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7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9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станция скорой медицинской помощи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стоматологическая поликлиника № 3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стоматологическая поликлиника № 4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областная больница № 1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клинико-диагностический цент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областной врачебно-физкультурны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областной кардиологически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областной центр охраны здоровья семьи и репродукции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Областная стоматологическая поликлиник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успешно подготовившие отчеты за 2016 год 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ас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городская больница № 8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городская детская больница № 1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городская детская поликлиника № 2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областная инфекционная больниц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областная психиатрическая больница № 3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ий областной кожно-венерологически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ий областной противотуберкулезны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ий областной центр по профилактике и борьбе со СПИД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Выгонич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Гордее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Дубр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Жуковская М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Жуковский областной детский туберкулезный санаторий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успешно подготовившие отчеты за 2016 год 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Злынск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араче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арачевский специализированный дом ребенк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летнян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лим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расногор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Почеп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Стародуб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Сузем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Трубче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Унеч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Юдиновская участковая больниц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КУЗ ОТ «Брянский областной центр мобилизационных резервов Резерв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План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Федерального регистра медицинских работников с данными таблицы 1100 ф.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Геоинформационной системы с данными формы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увязок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сводных форм. Просмотр истории сборки формы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ь отчетных форм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. 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верка данных ФРМР с данными т. 1100 ф.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сдачи годовых отчетов необходимо полностью заполнить ФРМР по всем врачам, средним и младшим медицинским работникам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врачей, средних и младших медицинских работников, включенных в ФРМР, должно полностью соответствовать количеству этих работников в табл. 1100 ф. 30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схождении – пояснительная записк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.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 Сверка данных Геоинформационной системы с данными формы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ть, мощность (плановое число посещений в смену), число коек круглосуточного стационара по форме 30 должны полностью совпадать с данными Геоинформационной системы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актуализации данных Геоинформационной системы необходимо внести измененные данные в формы НП и МО в ИАС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инг здравоохранения»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точнение информации, содержащейся в Геоинформационной системе, необходимо направить запрос в свободной форме по адресу электронной почт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msi6@brkmed.ru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. Проверка увязок (контролей)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верки формы необходимо последовательно выбрать пункт Меню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Увязки формы и подпункты: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внутриформенные увязки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межформенные увязки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ится окно с результатами проверок увязок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257800" cy="4352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Окно результатов проверки увязок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43600" y="114300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ечатка увязок выполняется нажатием кнопки Печать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жно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 сдаче каждой формы обязательно иметь как саму распечатанную форму, так и распечатанные внутриформенные и межформенные увяз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3880"/>
            <a:ext cx="9907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eff1"/>
                </a:solidFill>
                <a:latin typeface="Arial Black"/>
              </a:rPr>
              <a:t>IV</a:t>
            </a:r>
            <a:r>
              <a:rPr b="1" lang="ru-RU" sz="2400" spc="-1" strike="noStrike">
                <a:solidFill>
                  <a:srgbClr val="99eff1"/>
                </a:solidFill>
                <a:latin typeface="Arial Black"/>
              </a:rPr>
              <a:t>. Проверка сводных форм. Просмотр истории сборки формы</a:t>
            </a: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формирования свода имеется возможность просмотреть историю сборки по каждой ячейке сводной формы. Для этого необходимо кликнуть правой кнопкой мыши по необходимой ячейке (она должна быть неактивной) и из контекстного меню выбрать пункт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казать историю сборки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ь осуществляется нажатием кнопки Печать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Просмотр истории сборки ячейк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V</a:t>
            </a: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. Печать отчетных форм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чать отчетной формы выполняется только после того, как будут выверены все данные и внесены все исправления. Для печати необходимо открыть форму и выбрать пункт меню Обработ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чатные фор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а экспортируется в форма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распечатывается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выгруженной форме  вносить изменения запрещено. Если возникла необходимость изменить данные, то необходимо сначала внести изменения чере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ониторинг, а затем снова выгрузить форму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ак описано выш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0:05:58Z</dcterms:created>
  <dc:creator/>
  <dc:description/>
  <cp:keywords/>
  <dc:language>en-US</dc:language>
  <cp:lastModifiedBy>Admin</cp:lastModifiedBy>
  <dcterms:modified xsi:type="dcterms:W3CDTF">2017-12-18T13:36:20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