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08F0-7280-4785-994F-C76C1D56C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6400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062240"/>
            <a:ext cx="6400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9A56-C2C6-444F-95F6-F7A1AE1C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5049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06224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06224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A085-07BE-4513-BFB4-4B50495FB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50496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50496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06224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06224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06224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29FE-03B0-433B-8277-9336B6167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0A4E-1CD4-4F28-A226-A5C68DB5F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C4DA-C3AE-45C0-A31B-894BFE06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6682-8F9A-4449-AEB9-4551F2D3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3123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504960"/>
            <a:ext cx="3123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CD2A-4233-4EEC-B125-5E1642F5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94D0-D0FF-4918-B118-F27F1FCA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D21C-F86A-4A1A-81F7-B2BB43F4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504960"/>
            <a:ext cx="3123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06224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3209-B1A5-478C-9AE7-FC80C8F3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DF1A-FF52-4628-AB9E-D32FADB1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3123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5049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06224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9BEE-3417-404C-9B9E-E0970CD9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5049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062240"/>
            <a:ext cx="6400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CBA6-9355-42C8-AE37-DECAAF49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6400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062240"/>
            <a:ext cx="6400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4D96-F99A-4A9C-97C5-0F88F4F0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5049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06224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06224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3EB8-50AC-4904-BAFF-3CDA3D9B5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50496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50496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06224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06224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062240"/>
            <a:ext cx="20606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4F73-7AAE-4147-8F88-BF798F8A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A82B-EFD3-47C1-9D30-CD94A8BE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3123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504960"/>
            <a:ext cx="3123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3002-7BD9-41F1-8047-AE2F94D7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A7EC-0E6F-46EB-A189-DABCFC41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82D4-D3A9-4B56-9C81-CF09DE04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504960"/>
            <a:ext cx="3123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06224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7017-1D20-4B62-847C-6C98A133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3123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5049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06224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54A1-1D37-4CB4-A4F0-AB0D8AAE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5049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504960"/>
            <a:ext cx="31233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062240"/>
            <a:ext cx="6400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F507-7E64-4F0B-A89D-89A88F20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7BEA-F889-4905-B17E-FE4E2DDC042D}" type="slidenum"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2D72-DFAC-47D0-902C-967F61776EA9}" type="slidenum"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6969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Формирование годовых статистических отчетов в ИАС «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-мониторинг здравоохранения»</a:t>
            </a:r>
            <a:endParaRPr b="0" lang="en-US" sz="42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47242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рисова Н. П.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ормационно-аналитический отдел ГАУЗ МИАЦ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92680" y="6110280"/>
            <a:ext cx="32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Брянск, 20 декабря 2018 г.»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eff1"/>
                </a:solidFill>
                <a:latin typeface="Arial Black"/>
              </a:rPr>
              <a:t>IV</a:t>
            </a:r>
            <a:r>
              <a:rPr b="1" lang="ru-RU" sz="3600" spc="-1" strike="noStrike">
                <a:solidFill>
                  <a:srgbClr val="99eff1"/>
                </a:solidFill>
                <a:latin typeface="Arial Black"/>
              </a:rPr>
              <a:t>. Проверка увязок (контролей)</a:t>
            </a:r>
            <a:r>
              <a:rPr b="0" lang="ru-RU" sz="3600" spc="-1" strike="noStrike">
                <a:solidFill>
                  <a:srgbClr val="99eff1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проверки формы необходимо последовательно выбрать пункт Меню 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Увязки формы и подпункты: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рить внутриформенные увязки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рить межформенные увязки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явится окно с результатами проверок увязок.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52480" y="1042920"/>
            <a:ext cx="5562720" cy="46054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Окно результатов проверки увязок</a:t>
            </a:r>
            <a:endParaRPr b="0" lang="en-US" sz="2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5790960"/>
            <a:ext cx="79250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печатка увязок выполняется нажатием кнопки Печать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1219320"/>
            <a:ext cx="99036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eff1"/>
                </a:solidFill>
                <a:latin typeface="Arial Black"/>
              </a:rPr>
              <a:t>V</a:t>
            </a:r>
            <a:r>
              <a:rPr b="1" lang="ru-RU" sz="4000" spc="-1" strike="noStrike">
                <a:solidFill>
                  <a:srgbClr val="99eff1"/>
                </a:solidFill>
                <a:latin typeface="Arial Black"/>
              </a:rPr>
              <a:t>. Печать отчетных форм</a:t>
            </a:r>
            <a:r>
              <a:rPr b="0" lang="ru-RU" sz="4000" spc="-1" strike="noStrike">
                <a:solidFill>
                  <a:srgbClr val="99eff1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чать отчетной формы выполняется только после того, как будут выверены все данные и внесены все исправления. Для печати необходимо открыть форму и выбрать пункт меню Обработк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ечатные форм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орма экспортируется в формат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l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распечатывается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ажн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В выгруженной форме  вносить изменения запрещено. Если возникла необходимость изменить данные, то сначала вносятся изменения через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мониторинг, а затем снова можно выгрузить форму 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l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как описано выше.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eff1"/>
                </a:solidFill>
                <a:latin typeface="Arial Black"/>
              </a:rPr>
              <a:t>МО, подготовившие отчеты за 2017 год с замечаниями</a:t>
            </a:r>
            <a:endParaRPr b="0" lang="en-US" sz="32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АУЗ «Брянская областная психиатрическая больница № 1»</a:t>
            </a:r>
            <a:endParaRPr b="0" lang="en-US" sz="2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БУЗ «Брянская областная туберкулезная больница»</a:t>
            </a:r>
            <a:endParaRPr b="0" lang="en-US" sz="2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БУЗ «Брянский областной противотуб. диспансер»</a:t>
            </a:r>
            <a:endParaRPr b="0" lang="en-US" sz="2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АУЗ «Брянский областной госпиталь для ветеранов войн»</a:t>
            </a:r>
            <a:endParaRPr b="0" lang="en-US" sz="2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АУЗ «Брянский клинико-диагностический центр»</a:t>
            </a:r>
            <a:endParaRPr b="0" lang="en-US" sz="2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АУЗ «Санаторий «Домашово» для детей с родителями»</a:t>
            </a:r>
            <a:endParaRPr b="0" lang="en-US" sz="2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АУЗ «Брянская городская поликлиника № 5»</a:t>
            </a:r>
            <a:endParaRPr b="0" lang="en-US" sz="2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АУЗ «Брянская городская больница № 1»</a:t>
            </a:r>
            <a:endParaRPr b="0" lang="en-US" sz="2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АУЗ «Брянская городская больница № 2»</a:t>
            </a:r>
            <a:endParaRPr b="0" lang="en-US" sz="2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АУЗ «Брянская городская больница № 8»</a:t>
            </a:r>
            <a:endParaRPr b="0" lang="en-US" sz="2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БУЗ «Брасовская ЦРБ»</a:t>
            </a:r>
            <a:endParaRPr b="0" lang="en-US" sz="2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БУЗ «Брянская МБ»</a:t>
            </a:r>
            <a:endParaRPr b="0" lang="en-US" sz="2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БУЗ «Жуковская МБ»</a:t>
            </a:r>
            <a:endParaRPr b="0" lang="en-US" sz="2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БУЗ «Севская ЦРБ»</a:t>
            </a:r>
            <a:endParaRPr b="0" lang="en-US" sz="2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БУЗ «Суражская ЦРБ»</a:t>
            </a:r>
            <a:endParaRPr b="0" lang="en-US" sz="2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БУЗ «Юдиновская участковая больница»</a:t>
            </a:r>
            <a:endParaRPr b="0" lang="en-US" sz="2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eff1"/>
                </a:solidFill>
                <a:latin typeface="Arial Black"/>
              </a:rPr>
              <a:t>План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ерка данных Федерального реестра медицинских организаций (ФРМО)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ерка данных Федерального регистра медицинских работников (ФРМР) с данными т. 1100 ф. 30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ерка данных Геоинформационной системы с данными формы 30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рка увязок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чать отчетных форм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eff1"/>
                </a:solidFill>
                <a:latin typeface="Arial Black"/>
              </a:rPr>
              <a:t>I. </a:t>
            </a:r>
            <a:r>
              <a:rPr b="1" lang="ru-RU" sz="3600" spc="-1" strike="noStrike">
                <a:solidFill>
                  <a:srgbClr val="99eff1"/>
                </a:solidFill>
                <a:latin typeface="Arial Black"/>
              </a:rPr>
              <a:t>Сверка данных ФРМО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татное расписание должно быть актуальным на момент сдачи отчетов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личество штатных единиц в штатном расписании не должно быть меньше суммы занятых ставок указанных в ФРМР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дел «Медицинское оборудование» при наличии соответствующего оборудования должен быть заполнен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eff1"/>
                </a:solidFill>
                <a:latin typeface="Arial Black"/>
              </a:rPr>
              <a:t>Список МО с просроченным штатным расписанием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ГАУЗ "Санаторий "Домашово" для детей с родителями"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ГБУЗ "Клинцовский дом ребенка"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99eff1"/>
                </a:solidFill>
                <a:latin typeface="Arial Black"/>
              </a:rPr>
              <a:t>Список МО, у которых количество штатных единиц меньше суммы занятых ставок в ФРМР  </a:t>
            </a:r>
            <a:br>
              <a:rPr sz="2100"/>
            </a:br>
            <a:r>
              <a:rPr b="0" lang="ru-RU" sz="2100" spc="-1" strike="noStrike">
                <a:solidFill>
                  <a:srgbClr val="99eff1"/>
                </a:solidFill>
                <a:latin typeface="Arial Black"/>
              </a:rPr>
              <a:t>(недопустимая ситуация)</a:t>
            </a:r>
            <a:endParaRPr b="0" lang="en-US" sz="21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ГАУЗ "Брянская городская больница №1"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ГАУЗ "Брянская городская поликлиника № 4"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ГАУЗ "Брянская областная больница №1"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ГАУЗ "Брянский областной кардиологический диспансер"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 ГБУЗ "Брянский областной центр по профилактике и борьбе со СПИД"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 ГБУЗ "Выгоничская центральная районная больница"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 ГБУЗ "Гордеевская центральная районная больница"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. ГБУЗ "Мглинская центральная районная больница"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. ГБУЗ "Погарская центральная районная больница"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. ГБУЗ "Суземская центральная районная больница"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1. ГБУЗ "Унечская центральная районная больница"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eff1"/>
                </a:solidFill>
                <a:latin typeface="Arial Black"/>
              </a:rPr>
              <a:t>Список МО с незаполненным разделом «Медицинское оборудование»</a:t>
            </a: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ГАУЗ "Брянская областная психиатрическая больница №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"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ГБУЗ "Злынковская центральная районная больница"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ГБУЗ "Трубчевская центральная районная больница"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eff1"/>
                </a:solidFill>
                <a:latin typeface="Arial Black"/>
              </a:rPr>
              <a:t>II. </a:t>
            </a:r>
            <a:r>
              <a:rPr b="1" lang="ru-RU" sz="3600" spc="-1" strike="noStrike">
                <a:solidFill>
                  <a:srgbClr val="99eff1"/>
                </a:solidFill>
                <a:latin typeface="Arial Black"/>
              </a:rPr>
              <a:t>Сверка данных ФРМР с данными т. 1100 ф. 30.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е медицинские работники, работающие в декабре 2018 года в МО, должны быть включены в ФРМР до конца  2018 года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сверки физических  лиц ФРМР использовать  отчет "Форма № 30 , раздел 2 "Штаты медицинской организации " " (раздел "Динамические отчеты" - группа "Отчеты ФРМР") из Системы мониторинга показателей системы здравоохранения Российской Федерации (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https://monitoring.egisz.rosminzdrav.ru/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всем расхождениям подготовить пояснительную записку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анализировать " Отчет по сотрудникам с сертификатами и/или свидетельствами по аккредитации с истекшим сроком действия и со сроком действия, близким к завершению" из раздела " Анализ " Федерального регистра медицинских работников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ttps://nr.egisz.rosminzdrav.ru/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eff1"/>
                </a:solidFill>
                <a:latin typeface="Arial Black"/>
              </a:rPr>
              <a:t>III.</a:t>
            </a:r>
            <a:r>
              <a:rPr b="1" lang="ru-RU" sz="3600" spc="-1" strike="noStrike">
                <a:solidFill>
                  <a:srgbClr val="99eff1"/>
                </a:solidFill>
                <a:latin typeface="Arial Black"/>
              </a:rPr>
              <a:t> Сверка данных Геоинформационной системы с данными формы 30.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л-во амбулаторий = т. 1001 с. 3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л-во домовых хозяйств = т. 1001 с. 18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л-во перинатальных центров = т. 1001 с. 88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л-во участковых больниц = т. 1001 с. 123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л-во ФАП = т. 1001 с. 124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л-во ФП = т. 1001 с.125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щность = т. 1010 с. 1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л-во коек = т. 3100 с. 1 гр. 3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по профилям соответственно)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актуализации данных Геоинформационной системы необходимо внести измененные данные в форму НП и МО в ИАС «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-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ниторинг здравоохранения»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уточнение информации, содержащейся в Геоинформационной системе, необходимо направить запрос в свободной форме по адресу электронной почты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omsi6@brkmed.ru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10:05:58Z</dcterms:created>
  <dc:creator/>
  <dc:description/>
  <cp:keywords/>
  <dc:language>en-US</dc:language>
  <cp:lastModifiedBy>Admin</cp:lastModifiedBy>
  <dcterms:modified xsi:type="dcterms:W3CDTF">2018-12-20T06:16:47Z</dcterms:modified>
  <cp:revision>8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49</vt:lpwstr>
  </property>
</Properties>
</file>