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0CA-661A-40BC-8FFD-B6917CBA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0622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C02-ADDB-4150-BBA4-D4600BFF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B80-4E6E-4D97-9BE5-B21E773F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407-6CF2-4D98-ADD6-B8F73C9C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A4B5-0026-43F4-BED0-F939A244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7960-64DB-4DB7-B13E-ECC73A99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77D4-05B1-439F-95F8-3099B11D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3BBD-AADA-46F9-BFE4-863F2E07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967D-4160-474C-A799-87A66A14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F445-9F79-474C-93B2-DB59327D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1C06-07FF-45C6-805A-985E7438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F47-2924-46CD-AC22-35013C0E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5ABF-B19B-40CC-9AC6-091EE959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3F2B-F5A0-4E58-9EDC-A5C24F0B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0622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19C6-E503-4D84-8B0E-D6B75122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4797-FFED-4367-94D3-FAD3B8A7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D2C4-F7DC-4018-A02E-EA13E495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775-88DB-472D-B8C4-87C88F49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27E-C2A5-4F15-99C3-CB88F090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503-F988-452F-9166-B5B00B44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786-7D78-49ED-981E-9BC1255A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274-E685-4710-B73C-AAB8F571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ED9-B83B-4778-9021-49D8DEF5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D33-CB91-4802-BC52-8AFAEABB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3C1A-7779-4376-8AD0-38827A718BD2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6E4C-8E51-4046-A89D-85F8B4AB102E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ормирование годовых статистических отчетов в ИАС «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-мониторинг здравоохранения»</a:t>
            </a:r>
            <a:endParaRPr b="0" lang="en-US" sz="4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724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рисова Н. П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о-аналитический отдел ГАУЗ МИАЦ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92680" y="611028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Брянск, 20 декабря 2018 г.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IV</a:t>
            </a:r>
            <a:r>
              <a:rPr b="1" lang="ru-RU" sz="3600" spc="-1" strike="noStrike">
                <a:solidFill>
                  <a:srgbClr val="99eff1"/>
                </a:solidFill>
                <a:latin typeface="Arial Black"/>
              </a:rPr>
              <a:t>. Проверка увязок (контролей)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оверки формы необходимо последовательно выбрать пункт Меню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Увязки формы и подпункты: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ить внутриформенные увязки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ить межформенные увязки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явится окно с результатами проверок увязок.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1042920"/>
            <a:ext cx="5562720" cy="4605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Окно результатов проверки увязок</a:t>
            </a:r>
            <a:endParaRPr b="0" lang="en-US" sz="2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5790960"/>
            <a:ext cx="7925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печатка увязок выполняется нажатием кнопки Печать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1219320"/>
            <a:ext cx="99036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V</a:t>
            </a:r>
            <a:r>
              <a:rPr b="1" lang="ru-RU" sz="4000" spc="-1" strike="noStrike">
                <a:solidFill>
                  <a:srgbClr val="99eff1"/>
                </a:solidFill>
                <a:latin typeface="Arial Black"/>
              </a:rPr>
              <a:t>. Печать отчетных форм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чать отчетной формы выполняется только после того, как будут выверены все данные и внесены все исправления. Для печати необходимо открыть форму и выбрать пункт меню Обработк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ечатные форм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а экспортируется в форма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распечатывается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 выгруженной форме  вносить изменения запрещено. Если возникла необходимость изменить данные, то сначала вносятся изменения через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мониторинг, а затем снова можно выгрузить форму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ак описано выше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МО, подготовившие отчеты за 2017 год с замечаниями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АУЗ «Брянская областная психиатрическая больница № 1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БУЗ «Брянская областная туберкулезная больница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БУЗ «Брянский областной противотуб. диспансер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АУЗ «Брянский областной госпиталь для ветеранов войн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АУЗ «Брянский клинико-диагностический центр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АУЗ «Санаторий «Домашово» для детей с родителями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АУЗ «Брянская городская поликлиника № 5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АУЗ «Брянская городская больница № 1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АУЗ «Брянская городская больница № 2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АУЗ «Брянская городская больница № 8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БУЗ «Брасовская ЦРБ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БУЗ «Брянская МБ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БУЗ «Жуковская МБ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БУЗ «Севская ЦРБ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БУЗ «Суражская ЦРБ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БУЗ «Юдиновская участковая больница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eff1"/>
                </a:solidFill>
                <a:latin typeface="Arial Black"/>
              </a:rPr>
              <a:t>План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рка данных Федерального реестра медицинских организаций (ФРМО)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рка данных Федерального регистра медицинских работников (ФРМР) с данными т. 1100 ф. 30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рка данных Геоинформационной системы с данными формы 30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а увязок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чать отчетных форм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I. </a:t>
            </a:r>
            <a:r>
              <a:rPr b="1" lang="ru-RU" sz="3600" spc="-1" strike="noStrike">
                <a:solidFill>
                  <a:srgbClr val="99eff1"/>
                </a:solidFill>
                <a:latin typeface="Arial Black"/>
              </a:rPr>
              <a:t>Сверка данных ФРМО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татное расписание должно быть актуальным на момент сдачи отчетов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ичество штатных единиц в штатном расписании не должно быть меньше суммы занятых ставок указанных в ФРМР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дел «Медицинское оборудование» при наличии соответствующего оборудования должен быть заполнен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eff1"/>
                </a:solidFill>
                <a:latin typeface="Arial Black"/>
              </a:rPr>
              <a:t>Список МО с просроченным штатным расписанием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ГАУЗ "Санаторий "Домашово" для детей с родителями"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ГБУЗ "Клинцовский дом ребенка"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eff1"/>
                </a:solidFill>
                <a:latin typeface="Arial Black"/>
              </a:rPr>
              <a:t>Список МО, у которых количество штатных единиц меньше суммы занятых ставок в ФРМР  </a:t>
            </a:r>
            <a:br>
              <a:rPr sz="2100"/>
            </a:br>
            <a:r>
              <a:rPr b="0" lang="ru-RU" sz="2100" spc="-1" strike="noStrike">
                <a:solidFill>
                  <a:srgbClr val="99eff1"/>
                </a:solidFill>
                <a:latin typeface="Arial Black"/>
              </a:rPr>
              <a:t>(недопустимая ситуация)</a:t>
            </a:r>
            <a:endParaRPr b="0" lang="en-US" sz="21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ГАУЗ "Брянская городская больница №1"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ГАУЗ "Брянская городская поликлиника № 4"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ГАУЗ "Брянская областная больница №1"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ГАУЗ "Брянский областной кардиологический диспансер"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ГБУЗ "Брянский областной центр по профилактике и борьбе со СПИД"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ГБУЗ "Выгоничская центральная районная больница"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ГБУЗ "Гордеевская центральная районная больница"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ГБУЗ "Мглинская центральная районная больница"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ГБУЗ "Погарская центральная районная больница"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ГБУЗ "Суземская центральная районная больница"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ГБУЗ "Унечская центральная районная больница"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Список МО с незаполненным разделом «Медицинское оборудование»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ГАУЗ "Брянская областная психиатрическая больница 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"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ГБУЗ "Злынковская центральная районная больница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ГБУЗ "Трубчевская центральная районная больница"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II. </a:t>
            </a:r>
            <a:r>
              <a:rPr b="1" lang="ru-RU" sz="3600" spc="-1" strike="noStrike">
                <a:solidFill>
                  <a:srgbClr val="99eff1"/>
                </a:solidFill>
                <a:latin typeface="Arial Black"/>
              </a:rPr>
              <a:t>Сверка данных ФРМР с данными т. 1100 ф. 30.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медицинские работники, работающие в декабре 2018 года в МО, должны быть включены в ФРМР до конца  2018 года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верки физических  лиц ФРМР использовать  отчет "Форма № 30 , раздел 2 "Штаты медицинской организации " " (раздел "Динамические отчеты" - группа "Отчеты ФРМР") из Системы мониторинга показателей системы здравоохранения Российской Федерации (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https://monitoring.egisz.rosminzdrav.ru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всем расхождениям подготовить пояснительную записку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анализировать " Отчет по сотрудникам с сертификатами и/или свидетельствами по аккредитации с истекшим сроком действия и со сроком действия, близким к завершению" из раздела " Анализ " Федерального регистра медицинских работников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ttps://nr.egisz.rosminzdrav.ru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III.</a:t>
            </a:r>
            <a:r>
              <a:rPr b="1" lang="ru-RU" sz="3600" spc="-1" strike="noStrike">
                <a:solidFill>
                  <a:srgbClr val="99eff1"/>
                </a:solidFill>
                <a:latin typeface="Arial Black"/>
              </a:rPr>
              <a:t> Сверка данных Геоинформационной системы с данными формы 30.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-во амбулаторий = т. 1001 с. 3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-во домовых хозяйств = т. 1001 с. 18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-во перинатальных центров = т. 1001 с. 88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-во участковых больниц = т. 1001 с. 123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-во ФАП = т. 1001 с. 124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-во ФП = т. 1001 с.125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щность = т. 1010 с. 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-во коек = т. 3100 с. 1 гр. 3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о профилям соответственно)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актуализации данных Геоинформационной системы необходимо внести измененные данные в форму НП и МО в ИАС 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ниторинг здравоохранения»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уточнение информации, содержащейся в Геоинформационной системе, необходимо направить запрос в свободной форме по адресу электронной почт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omsi6@brkmed.ru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0:05:58Z</dcterms:created>
  <dc:creator/>
  <dc:description/>
  <cp:keywords/>
  <dc:language>en-US</dc:language>
  <cp:lastModifiedBy>Admin</cp:lastModifiedBy>
  <dcterms:modified xsi:type="dcterms:W3CDTF">2018-12-20T06:16:47Z</dcterms:modified>
  <cp:revision>8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