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50C0-064F-42C8-89F8-4F557AAE6D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9397-396F-4586-8819-46F454E977E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852720" y="9375840"/>
            <a:ext cx="294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8E1914B-095E-421C-9B3B-0772AECC4C7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05040" y="774720"/>
            <a:ext cx="4995720" cy="37479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07920" y="4743360"/>
            <a:ext cx="498168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0315-8D41-4268-8CCF-6076D1F58F9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3C78-8F33-435B-88BE-954CBBF560E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EBBD-F908-4F09-B9B6-DF0AFFFC7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628E-546D-4196-9F8E-03070A88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FF97-C6DF-44CB-892F-7E7E605E6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201A-68C4-4336-A9A0-5F7F3349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DDEA-DF12-478B-B935-5667C4F1B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DD44-F9FF-4213-B678-AD850944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03EE-0087-4CE0-928B-047029B7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D16A-E867-4A47-A308-A87CDB38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825C-D97E-4F0A-90B4-9981D1B0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B06F-6100-4B02-9C13-317622E5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1512-1934-489B-8CDA-49D6E61C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3ACE-F61F-4A9E-8EFF-5C81C8BE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D56D-A130-4C21-8CB8-4C399305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7573-EAB6-4567-B557-74419317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16D3-6FF8-4A32-8536-E36FAF93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41D4-8708-4ABC-B79E-D1AC1FAFA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38EE-6037-48BD-AC8E-55FD5524B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D137-FFEA-4CE3-B65E-981A3B36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8A70-97A9-433F-BD29-825FC40F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D9FA-E8E1-443B-B752-D9F04AC1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889A-5A9F-4629-8771-15DB67B3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52D3-1FDA-4DBF-9758-8FC9D52B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57FB-653F-4B5E-A960-A079FE10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9B76-A89F-454D-9D2B-DC71C148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6764-9983-4575-B61B-1C76E8AA93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CF59-C370-4F00-A852-F949627E42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0920" y="457200"/>
            <a:ext cx="830412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сведений о работе скорой медицинской помощи в форме федерального статистического наблюдения № 30 «Сведения о медицинской организации» за 2016 год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14200" y="571680"/>
          <a:ext cx="8643960" cy="6180120"/>
        </p:xfrm>
        <a:graphic>
          <a:graphicData uri="http://schemas.openxmlformats.org/drawingml/2006/table">
            <a:tbl>
              <a:tblPr/>
              <a:tblGrid>
                <a:gridCol w="6000840"/>
                <a:gridCol w="785880"/>
                <a:gridCol w="785880"/>
                <a:gridCol w="1071360"/>
              </a:tblGrid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 и повторным инфарктом миокарда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I21-I2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:   проведено тромболизи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рть наступила 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втомобиле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ставлены в региональные сосудистые цен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 первичные сосудистые отд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и цереброваскулярными болезнями  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60-I6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:    проведено тромболизи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рть наступила в 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втомобиле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дицинской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ставлены в региональные сосудистые цен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 первичные сосудистые отд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езрезультатных выез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азано за необоснованностью выз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: передано в другие медицинские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исло выездов бригад скорой медицинской помощи к пациентам, пострадавших в ДТ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ациентов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х в ДТ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:  со смертельным исходом до приезда скорой 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дицинской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втомобиле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корой 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дицинской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ставлены в травмоцентры 1 и 2 уров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исло выездов по медицинскому обеспечению спортивных и других массовых меропри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942 от 2 декабря 2009 г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1680" y="1500120"/>
            <a:ext cx="8262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результатные выезд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лучаи, когд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а не оказалось на мест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ов был ложным (по данному адресу скорую медицинскую помощь не вызывали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йден адрес, указанный при вызов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оказался практически здоровым и не нуждался в помощ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умер до приезда бригады скорой медицинской помощ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увезён до прибытия бригады скорой медицинской помощ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обслужен врачом поликлиники до прибытия бригады скорой медицинской помощ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отказался от помощи (осмотра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ов отменё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28760" y="1552680"/>
          <a:ext cx="7858080" cy="4540320"/>
        </p:xfrm>
        <a:graphic>
          <a:graphicData uri="http://schemas.openxmlformats.org/drawingml/2006/table">
            <a:tbl>
              <a:tblPr/>
              <a:tblGrid>
                <a:gridCol w="2857320"/>
                <a:gridCol w="785880"/>
                <a:gridCol w="1020600"/>
                <a:gridCol w="1065240"/>
                <a:gridCol w="1065240"/>
                <a:gridCol w="1063800"/>
              </a:tblGrid>
              <a:tr h="5302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3 до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втомобилей скорой медицинской помощи –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marL="187200" indent="809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втомобили класса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втомобили класса «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втомобили класса «С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68760" rIns="68760" tIns="0" bIns="0" anchor="t">
                      <a:noAutofit/>
                    </a:bodyPr>
                    <a:p>
                      <a:pPr marL="893880" indent="-62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ля новорожденных    и детей раннего возрас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68760" rIns="68760" tIns="0" bIns="0" anchor="t">
                      <a:noAutofit/>
                    </a:bodyPr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втомобил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овышенн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им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28760" y="42840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, оснащенных автоматизированной системой управления приема и обработки вызовов   1____________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даче отчетов следует указать название программы автоматизированной системы управления приема и обработки вызовов скорой медицинской помощи, установленной на станциях (отделениях) скорой медицинской помощ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1028"/>
          <p:cNvSpPr txBox="1"/>
          <p:nvPr/>
        </p:nvSpPr>
        <p:spPr>
          <a:xfrm rot="65400">
            <a:off x="1066680" y="1752480"/>
            <a:ext cx="7620120" cy="41148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Благодарю за внимание !</a:t>
            </a:r>
            <a:endParaRPr b="1" lang="en-US" sz="7200" spc="1" strike="noStrike">
              <a:ln w="0">
                <a:noFill/>
              </a:ln>
              <a:solidFill>
                <a:srgbClr val="ff3300">
                  <a:alpha val="50000"/>
                </a:srgbClr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000080" y="357120"/>
            <a:ext cx="7786800" cy="57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ции № 388н от 20 июня 2013  г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порядка оказания скорой, в том числе скорой специализированной, медицинской помощи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акции приказа Министерства здравоохранения Российской Федерации № 33н от 22 января 2016 г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5345280"/>
            <a:ext cx="801540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3 показывается число станций (отделений) скорой медицинской помощи по числу выездов в год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11280" y="1628640"/>
          <a:ext cx="7561080" cy="3786480"/>
        </p:xfrm>
        <a:graphic>
          <a:graphicData uri="http://schemas.openxmlformats.org/drawingml/2006/table">
            <a:tbl>
              <a:tblPr/>
              <a:tblGrid>
                <a:gridCol w="4054320"/>
                <a:gridCol w="1389240"/>
                <a:gridCol w="211752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– 1, нет - 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ездов в год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00 тысяч (внекатегорийна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5 до 100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 до 75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5 до 50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до 25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тысяч 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 тысяч 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Заголовок 1"/>
          <p:cNvSpPr/>
          <p:nvPr/>
        </p:nvSpPr>
        <p:spPr>
          <a:xfrm>
            <a:off x="755640" y="476280"/>
            <a:ext cx="7993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. Категорийность станции (отделения) скорой медицинской помощ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. Должности и физические лица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68360" y="1500120"/>
          <a:ext cx="8462880" cy="4773600"/>
        </p:xfrm>
        <a:graphic>
          <a:graphicData uri="http://schemas.openxmlformats.org/drawingml/2006/table">
            <a:tbl>
              <a:tblPr/>
              <a:tblGrid>
                <a:gridCol w="1604880"/>
                <a:gridCol w="857160"/>
                <a:gridCol w="1000080"/>
                <a:gridCol w="1249560"/>
                <a:gridCol w="1251000"/>
                <a:gridCol w="1249200"/>
                <a:gridCol w="1251000"/>
              </a:tblGrid>
              <a:tr h="316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етно-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. Медицинская помощь, оказанная бригадами скорой медицинской помощи при выезда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14200" y="1214280"/>
          <a:ext cx="8642520" cy="5526360"/>
        </p:xfrm>
        <a:graphic>
          <a:graphicData uri="http://schemas.openxmlformats.org/drawingml/2006/table">
            <a:tbl>
              <a:tblPr/>
              <a:tblGrid>
                <a:gridCol w="2160720"/>
                <a:gridCol w="506520"/>
                <a:gridCol w="663480"/>
                <a:gridCol w="885960"/>
                <a:gridCol w="819000"/>
                <a:gridCol w="714240"/>
                <a:gridCol w="500040"/>
                <a:gridCol w="714600"/>
                <a:gridCol w="857160"/>
                <a:gridCol w="820800"/>
              </a:tblGrid>
              <a:tr h="227160"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итали-зированн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скорой медицинской помощи по поводу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ая эваку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травм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трав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запных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остоя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 и патологии беремен-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жболь-нич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беременных,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жениц и родильн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108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выезд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детям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медицинская помощь при выезда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ельских населенных  пунктах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умерших в автомобиле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 в возрасте 55 лет и старше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 в возрасте 60 лет и старше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при выездах, всего  1 _________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сельских жителей  2 ____________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(из стр. 1)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 (0-17 лет) 3 __________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(18 лет и старше) 4 ______________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 (из стр. 4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(55 лет и старше)  5 ______________, мужчины (60 лет и старше)  6 ________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. Сведения о деятельности бригад скорой медицинской помощ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79280" y="1413000"/>
          <a:ext cx="8715600" cy="5256000"/>
        </p:xfrm>
        <a:graphic>
          <a:graphicData uri="http://schemas.openxmlformats.org/drawingml/2006/table">
            <a:tbl>
              <a:tblPr/>
              <a:tblGrid>
                <a:gridCol w="4429080"/>
                <a:gridCol w="509760"/>
                <a:gridCol w="1017720"/>
                <a:gridCol w="1306440"/>
                <a:gridCol w="1452600"/>
              </a:tblGrid>
              <a:tr h="91440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остав и профиль брига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смен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рулосуточ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помощь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а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бщепрофиль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том числе: врачеб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53640" rIns="5364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:  для оказания медицинско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мощи детскому населени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ельдшер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ециализированные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сих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35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ыездные экстренные консультативные бригады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:  кардиолог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врологически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нфекционны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виамедицин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28760" y="42840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лиц, которым оказана помощь общепрофильными фельдшерскими бригадами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медицинская эвакуация пациентов 1 ______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сельских жителей  2 ____________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в амбулаторных условиях 1 ___________, из них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их жителей  2 ____________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. Число выездов бригад скорой медицинской помощи по времени доезда и затраченному на один выезд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71680" y="1714680"/>
          <a:ext cx="8143560" cy="4511520"/>
        </p:xfrm>
        <a:graphic>
          <a:graphicData uri="http://schemas.openxmlformats.org/drawingml/2006/table">
            <a:tbl>
              <a:tblPr/>
              <a:tblGrid>
                <a:gridCol w="1761840"/>
                <a:gridCol w="757440"/>
                <a:gridCol w="1266840"/>
                <a:gridCol w="1546200"/>
                <a:gridCol w="1404720"/>
                <a:gridCol w="1406520"/>
              </a:tblGrid>
              <a:tr h="55872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ездов бригад скорой медицинской помощи по времен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ез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ченному на один выез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места выз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ыз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рожно-транспортное происшеств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 2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21 до 4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41 до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олее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4:25:46Z</dcterms:created>
  <dc:creator>s.shlyafer</dc:creator>
  <dc:description/>
  <dc:language>en-US</dc:language>
  <cp:lastModifiedBy>Алексей</cp:lastModifiedBy>
  <dcterms:modified xsi:type="dcterms:W3CDTF">2016-12-19T08:09:00Z</dcterms:modified>
  <cp:revision>180</cp:revision>
  <dc:subject/>
  <dc:title>Заполнение сведений о работе службы скорой медицинской помощи в форме федерального статистического наблюдения № 30 «Сведения о медицинской организации» в 2014 г.    Шляфер София Исааковна</dc:title>
</cp:coreProperties>
</file>