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005E-0DA9-410C-BBFB-80D9DF62B1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E637-7323-49AC-A8D5-5FE47AB4C67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852720" y="9375840"/>
            <a:ext cx="294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69D2DD7-6B03-4AF7-A6E2-EF3391302D1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05040" y="774720"/>
            <a:ext cx="4995720" cy="37479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07920" y="4743360"/>
            <a:ext cx="498168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30C9-9B9F-4E82-8C05-D109B85A5FC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3E0A-B9DC-462F-B911-EE798E13787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2FF0-59E3-425F-91D6-18B1EF6EF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BA5F-79C3-4A8D-A402-733333F4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6EA8-CC97-4662-8F5C-3EA138616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9C5E-AA5F-4484-BDB1-032D01992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6D42-98AB-4FA5-8539-E8EB266CB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2351D-959C-43CB-BCF4-1091A299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6155-3221-441D-BCAB-167A43BC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5C1F-D557-455B-B306-87480B5B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264E-3337-4762-960C-2F982CEF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4258-C509-4A8B-B022-EAFA568C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B898-92AD-4D6E-B21A-AD30CA10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A2C2-4502-4567-B7E2-9FB06776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72A6-1089-4C2C-BC0C-0B08CC83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AEF8-57D2-4626-8979-7EAB94A3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CFB2-EB66-4A78-8255-F979B517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3DC5-2E3E-4081-862A-394616EE2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CF6A-C29D-4CBC-B1E7-D83A6026B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0060-DE0E-412A-9139-2BAF64AF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8ACF-284A-410C-BC8C-14CBE35B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1303-DC56-4E54-BE2C-CD51045E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14D0-AFEE-4DFD-9DC6-83AFE5EC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3370-F123-4CC7-A5C4-57CE91B4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5D8E-4D6A-4CB7-938D-F68D8C93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7F9D-21E9-4E78-AC19-BEE1E64A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FF45-CC4D-4C45-BA03-C8CABB17C5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A6A4-9B6A-43E0-BB52-FFAAF10B92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0920" y="457200"/>
            <a:ext cx="830412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сведений о работе скорой медицинской помощи в форме федерального статистического наблюдения № 30 «Сведения о медицинской организации» за 2016 год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14200" y="571680"/>
          <a:ext cx="8643960" cy="6180120"/>
        </p:xfrm>
        <a:graphic>
          <a:graphicData uri="http://schemas.openxmlformats.org/drawingml/2006/table">
            <a:tbl>
              <a:tblPr/>
              <a:tblGrid>
                <a:gridCol w="6000840"/>
                <a:gridCol w="785880"/>
                <a:gridCol w="785880"/>
                <a:gridCol w="1071360"/>
              </a:tblGrid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 и повторным инфарктом миокарда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I21-I2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):   проведено тромболизи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рть наступила 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втомобиле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ставлены в региональные сосудистые цен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 первичные сосудистые отд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и цереброваскулярными болезнями  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60-I6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:    проведено тромболизи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рть наступила в 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втомобиле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едицинской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ставлены в региональные сосудистые цен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 первичные сосудистые отд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езрезультатных выез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азано за необоснованностью выз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: передано в другие медицинские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исло выездов бригад скорой медицинской помощи к пациентам, пострадавших в ДТ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ациентов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х в ДТ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:  со смертельным исходом до приезда скорой 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едицинской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втомобиле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корой 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едицинской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ставлены в травмоцентры 1 и 2 уров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исло выездов по медицинскому обеспечению спортивных и других массовых меропри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942 от 2 декабря 2009 г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71680" y="1500120"/>
            <a:ext cx="8262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результатные выезд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лучаи, когд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а не оказалось на мест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ов был ложным (по данному адресу скорую медицинскую помощь не вызывали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айден адрес, указанный при вызов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оказался практически здоровым и не нуждался в помощ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умер до приезда бригады скорой медицинской помощ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увезён до прибытия бригады скорой медицинской помощ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обслужен врачом поликлиники до прибытия бригады скорой медицинской помощ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отказался от помощи (осмотра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ов отменё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. Оснащение станции (отделения) скорой медицинской помощ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28760" y="1552680"/>
          <a:ext cx="7858080" cy="4540320"/>
        </p:xfrm>
        <a:graphic>
          <a:graphicData uri="http://schemas.openxmlformats.org/drawingml/2006/table">
            <a:tbl>
              <a:tblPr/>
              <a:tblGrid>
                <a:gridCol w="2857320"/>
                <a:gridCol w="785880"/>
                <a:gridCol w="1020600"/>
                <a:gridCol w="1065240"/>
                <a:gridCol w="1065240"/>
                <a:gridCol w="1063800"/>
              </a:tblGrid>
              <a:tr h="5302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о сроком эксплуатаци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3 до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втомобилей скорой медицинской помощи –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marL="187200" indent="809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втомобили класса «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втомобили класса «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втомобили класса «С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68760" rIns="68760" tIns="0" bIns="0" anchor="t">
                      <a:noAutofit/>
                    </a:bodyPr>
                    <a:p>
                      <a:pPr marL="893880" indent="-62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ля новорожденных    и детей раннего возрас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68760" rIns="68760" tIns="0" bIns="0" anchor="t">
                      <a:noAutofit/>
                    </a:bodyPr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втомобил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овышенн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дим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28760" y="42840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(отделений) скорой медицинской помощи, оснащенных автоматизированной системой управления приема и обработки вызовов   1____________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даче отчетов следует указать название программы автоматизированной системы управления приема и обработки вызовов скорой медицинской помощи, установленной на станциях (отделениях) скорой медицинской помощ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1028"/>
          <p:cNvSpPr txBox="1"/>
          <p:nvPr/>
        </p:nvSpPr>
        <p:spPr>
          <a:xfrm rot="65400">
            <a:off x="1066680" y="1752480"/>
            <a:ext cx="7620120" cy="41148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solidFill>
                  <a:srgbClr val="ff3300">
                    <a:alpha val="50000"/>
                  </a:srgbClr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Благодарю за внимание !</a:t>
            </a:r>
            <a:endParaRPr b="1" lang="en-US" sz="7200" spc="1" strike="noStrike">
              <a:ln w="0">
                <a:noFill/>
              </a:ln>
              <a:solidFill>
                <a:srgbClr val="ff3300">
                  <a:alpha val="50000"/>
                </a:srgbClr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000080" y="357120"/>
            <a:ext cx="7786800" cy="57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ции № 388н от 20 июня 2013  г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порядка оказания скорой, в том числе скорой специализированной, медицинской помощи»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акции приказа Министерства здравоохранения Российской Федерации № 33н от 22 января 2016 г.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5345280"/>
            <a:ext cx="801540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3 показывается число станций (отделений) скорой медицинской помощи по числу выездов в год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11280" y="1628640"/>
          <a:ext cx="7561080" cy="3786480"/>
        </p:xfrm>
        <a:graphic>
          <a:graphicData uri="http://schemas.openxmlformats.org/drawingml/2006/table">
            <a:tbl>
              <a:tblPr/>
              <a:tblGrid>
                <a:gridCol w="4054320"/>
                <a:gridCol w="1389240"/>
                <a:gridCol w="2117520"/>
              </a:tblGrid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– 1, нет - 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ездов в год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00 тысяч (внекатегорийна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75 до 100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0 до 75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5 до 50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0 до 25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тысяч 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5 тысяч 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Заголовок 1"/>
          <p:cNvSpPr/>
          <p:nvPr/>
        </p:nvSpPr>
        <p:spPr>
          <a:xfrm>
            <a:off x="755640" y="476280"/>
            <a:ext cx="7993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. Категорийность станции (отделения) скорой медицинской помощ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. Должности и физические лица станции (отделения) скорой медицинской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68360" y="1500120"/>
          <a:ext cx="8462880" cy="4773600"/>
        </p:xfrm>
        <a:graphic>
          <a:graphicData uri="http://schemas.openxmlformats.org/drawingml/2006/table">
            <a:tbl>
              <a:tblPr/>
              <a:tblGrid>
                <a:gridCol w="1604880"/>
                <a:gridCol w="857160"/>
                <a:gridCol w="1000080"/>
                <a:gridCol w="1249560"/>
                <a:gridCol w="1251000"/>
                <a:gridCol w="1249200"/>
                <a:gridCol w="1251000"/>
              </a:tblGrid>
              <a:tr h="316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етно-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2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. Медицинская помощь, оказанная бригадами скорой медицинской помощи при выезда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14200" y="1214280"/>
          <a:ext cx="8642520" cy="5526360"/>
        </p:xfrm>
        <a:graphic>
          <a:graphicData uri="http://schemas.openxmlformats.org/drawingml/2006/table">
            <a:tbl>
              <a:tblPr/>
              <a:tblGrid>
                <a:gridCol w="2160720"/>
                <a:gridCol w="506520"/>
                <a:gridCol w="663480"/>
                <a:gridCol w="885960"/>
                <a:gridCol w="819000"/>
                <a:gridCol w="714240"/>
                <a:gridCol w="500040"/>
                <a:gridCol w="714600"/>
                <a:gridCol w="857160"/>
                <a:gridCol w="820800"/>
              </a:tblGrid>
              <a:tr h="227160"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питали-зированн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скорой медицинской помощи по поводу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ая эваку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травм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травл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запных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остоя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ов и патологии беремен-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жболь-нич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беременных,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жениц и родильн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108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выезд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детям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медицинская помощь при выезда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ельских населенных  пунктах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умерших в автомобиле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щин в возрасте 55 лет и старше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12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чин в возрасте 60 лет и старше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при выездах, всего  1 _________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сельских жителей  2 ____________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(из стр. 1)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 (0-17 лет) 3 __________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(18 лет и старше) 4 ______________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 (из стр. 4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(55 лет и старше)  5 ______________, мужчины (60 лет и старше)  6 ________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. Сведения о деятельности бригад скорой медицинской помощ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79280" y="1413000"/>
          <a:ext cx="8715600" cy="5256000"/>
        </p:xfrm>
        <a:graphic>
          <a:graphicData uri="http://schemas.openxmlformats.org/drawingml/2006/table">
            <a:tbl>
              <a:tblPr/>
              <a:tblGrid>
                <a:gridCol w="4429080"/>
                <a:gridCol w="509760"/>
                <a:gridCol w="1017720"/>
                <a:gridCol w="1306440"/>
                <a:gridCol w="1452600"/>
              </a:tblGrid>
              <a:tr h="91440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остав и профиль брига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№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смен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рулосуточн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помощь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а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бщепрофиль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том числе: врачеб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53640" rIns="5364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:  для оказания медицинско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мощи детскому населению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ельдшер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ециализированные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сихиатр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35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ыездные экстренные консультативные бригады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:  кардиолог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врологически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нфекционны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виамедицин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28760" y="42840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лиц, которым оказана помощь общепрофильными фельдшерскими бригадами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медицинская эвакуация пациентов 1 ______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сельских жителей  2 ____________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в амбулаторных условиях 1 ___________, из них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ьских жителей  2 ____________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. Число выездов бригад скорой медицинской помощи по времени доезда и затраченному на один выезд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71680" y="1714680"/>
          <a:ext cx="8143560" cy="4511520"/>
        </p:xfrm>
        <a:graphic>
          <a:graphicData uri="http://schemas.openxmlformats.org/drawingml/2006/table">
            <a:tbl>
              <a:tblPr/>
              <a:tblGrid>
                <a:gridCol w="1761840"/>
                <a:gridCol w="757440"/>
                <a:gridCol w="1266840"/>
                <a:gridCol w="1546200"/>
                <a:gridCol w="1404720"/>
                <a:gridCol w="1406520"/>
              </a:tblGrid>
              <a:tr h="55872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ездов бригад скорой медицинской помощи по времен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ез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ченному на один выез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места выз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ме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ыз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рожно-транспортное происшеств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 2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21 до 4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41 до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олее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4:25:46Z</dcterms:created>
  <dc:creator>s.shlyafer</dc:creator>
  <dc:description/>
  <dc:language>en-US</dc:language>
  <cp:lastModifiedBy>Алексей</cp:lastModifiedBy>
  <dcterms:modified xsi:type="dcterms:W3CDTF">2016-12-19T08:09:00Z</dcterms:modified>
  <cp:revision>180</cp:revision>
  <dc:subject/>
  <dc:title>Заполнение сведений о работе службы скорой медицинской помощи в форме федерального статистического наблюдения № 30 «Сведения о медицинской организации» в 2014 г.    Шляфер София Исааковна</dc:title>
</cp:coreProperties>
</file>